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jpeg" ContentType="image/jpeg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7234B-2D3B-4EEF-8509-F5C292EE46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3926C-E015-466F-B5DC-FD6E029E6D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86068-C8F5-4CDD-9DD7-68BEC46521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ADEC86-5BB0-4116-9551-4EF4D0993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251969-A008-4773-B430-556FC91C0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1E2227-B8CE-48E8-AC61-9A9585528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5B478F-BD2C-4A8C-A6B2-DF2DCCC7E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619E0-1D7F-4456-803A-D82E4B6F6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1AA9F-A9A6-4E41-9834-4757C13F7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4FC7E-BF7E-4108-848E-D89641BE5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D31AB-788E-4D0C-B30C-93E2EF4C6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204BC-9784-4F7A-BF23-82B77EFD9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E951C-5E24-4736-B0CC-48B51A3EE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F3C40-A1A0-4D34-9825-BAE359F3E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2D7124-2B3C-44CE-A2CC-BD7EFF82C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4A672-569F-4528-B99F-9D4656C6E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8AA38-52A1-44F8-8F22-98336C15C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ACCFA-7755-4737-AFBD-9D34FE3C6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450B6-678A-470C-A4F6-520B0D7CA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2511A-D04F-4567-A31D-0E0B4BEBE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D98BEF-4ACE-4EBC-A2BF-0B78B2B8C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4DE205-3BD1-44D7-AC04-964016667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B4672A-1546-47E8-ADB8-E38555306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140E51-6B2A-40EE-89D3-23072453A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2BF55C-FF07-40CA-9D37-BCB2B731D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2919D8-BA84-4F5E-8212-49946F05E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E848E5-0020-458C-8A1B-7F3858199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03909-702E-4829-B311-98B11A20C21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20A60-E151-4AD1-A877-983EF8C0FF30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457200" y="6248520"/>
            <a:ext cx="243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sonnel – Module 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3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6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884C2-1EAA-446C-BCFE-D8DD100D4B31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28C39-3AFA-4A8B-AEB8-55B9B456D7D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57200" y="6248520"/>
            <a:ext cx="243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sonnel – Module 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Verdana"/>
              </a:rPr>
              <a:t>Sample Orientation Check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Document"/>
          <p:cNvSpPr/>
          <p:nvPr/>
        </p:nvSpPr>
        <p:spPr>
          <a:xfrm>
            <a:off x="1143000" y="1219320"/>
            <a:ext cx="6781680" cy="5333760"/>
          </a:xfrm>
          <a:prstGeom prst="pie">
            <a:avLst/>
          </a:prstGeom>
          <a:solidFill>
            <a:srgbClr val="ffffd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oratory to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roductions to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oratory technical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sonnel key poli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oratory Quality Management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b 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371600" y="1447920"/>
            <a:ext cx="6629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295280" y="1371600"/>
            <a:ext cx="647712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AME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RT DAT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SITION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R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A9F679-CA61-462C-9AC3-E25205B3522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838080" y="1219320"/>
            <a:ext cx="7925040" cy="3934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Verdana"/>
              </a:rPr>
              <a:t>Performance appraisal</a:t>
            </a:r>
            <a:br>
              <a:rPr sz="3600"/>
            </a:br>
            <a:r>
              <a:rPr b="1" i="1" lang="en-US" sz="3600" spc="-1" strike="noStrike">
                <a:solidFill>
                  <a:srgbClr val="000099"/>
                </a:solidFill>
                <a:latin typeface="Verdana"/>
              </a:rPr>
              <a:t> may highlight more opportunities for improvement </a:t>
            </a:r>
            <a:br>
              <a:rPr sz="3600"/>
            </a:br>
            <a:r>
              <a:rPr b="1" i="1" lang="en-US" sz="3600" spc="-1" strike="noStrike">
                <a:solidFill>
                  <a:srgbClr val="000099"/>
                </a:solidFill>
                <a:latin typeface="Verdana"/>
              </a:rPr>
              <a:t>for the laboratory than for the employe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380880" y="838080"/>
            <a:ext cx="1239840" cy="1981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085086-4CB2-4662-A49C-AFDD158B565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Job Qualifications and Descri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520" y="1219320"/>
            <a:ext cx="8305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aboratory Management shall have job description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at define qualifications and duties for all personnel.</a:t>
            </a: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O 15189: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990720" y="2819520"/>
            <a:ext cx="3809880" cy="335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quired edu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quired certific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quired degre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quired prior tra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quired prior experie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quired abil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029200" y="2819520"/>
            <a:ext cx="3657600" cy="335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pecify lines of autho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pecify responsibiliti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ll ro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ll du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ll responsibil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porting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990720" y="2438280"/>
            <a:ext cx="3809880" cy="3812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Qualif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29200" y="2438280"/>
            <a:ext cx="3657600" cy="3812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Job</a:t>
            </a:r>
            <a:r>
              <a:rPr b="1" lang="en-US" sz="28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Descri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4B87E0-482C-41BF-8E57-1EA271AF4B1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Verdana"/>
              </a:rPr>
              <a:t>Competency Assessment Checklist </a:t>
            </a: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(to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457200" y="1981080"/>
          <a:ext cx="8229600" cy="4017960"/>
        </p:xfrm>
        <a:graphic>
          <a:graphicData uri="http://schemas.openxmlformats.org/drawingml/2006/table">
            <a:tbl>
              <a:tblPr/>
              <a:tblGrid>
                <a:gridCol w="2743200"/>
                <a:gridCol w="914400"/>
                <a:gridCol w="457200"/>
                <a:gridCol w="457200"/>
                <a:gridCol w="533520"/>
                <a:gridCol w="3124080"/>
              </a:tblGrid>
              <a:tr h="35280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chnologist 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chnologist Tit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edure for Evalu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aluation D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aluat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edure it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d procedure manu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gn manual read lo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quipment availabl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k area ne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gent prepar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orm task accuratel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orm task timel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CD706E-DB30-486C-9BEE-12F1F482AF3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Verdana"/>
              </a:rPr>
              <a:t>Competency Assessment Checklist</a:t>
            </a: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(botto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457200" y="1752480"/>
          <a:ext cx="8229600" cy="4435560"/>
        </p:xfrm>
        <a:graphic>
          <a:graphicData uri="http://schemas.openxmlformats.org/drawingml/2006/table">
            <a:tbl>
              <a:tblPr/>
              <a:tblGrid>
                <a:gridCol w="2743200"/>
                <a:gridCol w="914400"/>
                <a:gridCol w="914400"/>
                <a:gridCol w="533520"/>
                <a:gridCol w="31240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70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sessment summa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7980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-training required to address deficiencies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196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ommended activities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-assessment to occur in _____ day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8040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ents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71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gned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74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sessed Technologi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alua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DC9069-632C-4A45-B7AE-571F4E8898D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Verdana"/>
              </a:rPr>
              <a:t>Competency Assess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1523880"/>
            <a:ext cx="8610480" cy="4648320"/>
          </a:xfrm>
          <a:prstGeom prst="flowChartDocument">
            <a:avLst/>
          </a:prstGeom>
          <a:solidFill>
            <a:srgbClr val="ffffd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228600" y="1600200"/>
          <a:ext cx="8610480" cy="3916440"/>
        </p:xfrm>
        <a:graphic>
          <a:graphicData uri="http://schemas.openxmlformats.org/drawingml/2006/table">
            <a:tbl>
              <a:tblPr/>
              <a:tblGrid>
                <a:gridCol w="1143000"/>
                <a:gridCol w="914400"/>
                <a:gridCol w="1371600"/>
                <a:gridCol w="1371600"/>
                <a:gridCol w="1143000"/>
                <a:gridCol w="2666880"/>
              </a:tblGrid>
              <a:tr h="82800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etency  Assessment Lo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in Hospital – Microbiology Laborato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mploye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s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sess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prais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/02/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m Sta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g, Ma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-assess in 1 y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/02/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irby-Bau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Ali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sse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cement of disks too crowded;  Reassess 14 da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2/03/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irby-Bauer(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Ali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-assess in 1 y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/08/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ad BC bottl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g, Ma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/10/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ytocentrifu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beya, Al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-assess in 1 yr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2/04/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ll autocla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beya, Al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5/08/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ysis data ent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g, Ma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sse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entry errors.  Read manual and reassess 10 da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20229B-0E03-4C06-A532-EFAD32025B3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80880" y="1523880"/>
            <a:ext cx="3962520" cy="43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ork rel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ask specif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inked to competenc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assess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s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viewing operator manu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viewing manual upd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nufacturers’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quipment training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57200" y="685800"/>
            <a:ext cx="4038480" cy="64224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Verdana"/>
              </a:rPr>
              <a:t>Training</a:t>
            </a:r>
            <a:br>
              <a:rPr sz="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572000" y="1752480"/>
            <a:ext cx="4267080" cy="43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ork rel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ay no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be task specif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ay no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be linked to competency assess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fer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orksho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ournal club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ournals and literature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648320" y="609480"/>
            <a:ext cx="4267080" cy="520560"/>
          </a:xfrm>
          <a:prstGeom prst="rect">
            <a:avLst/>
          </a:prstGeom>
          <a:solidFill>
            <a:srgbClr val="00007d"/>
          </a:solidFill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Continuing Edu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6934320" y="3733920"/>
            <a:ext cx="1782720" cy="148428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2666880" y="2971800"/>
            <a:ext cx="1109880" cy="129528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2819520" y="3505320"/>
            <a:ext cx="647640" cy="49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Verdana"/>
              </a:rPr>
              <a:t>Manual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94C3A2-E5B9-4A63-84E9-9C56D6F3D3E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lide Number Placeholder 3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C1A07-D7FC-4202-B5C9-E93E3E06580E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99"/>
                </a:solidFill>
                <a:latin typeface="Verdana"/>
              </a:rPr>
              <a:t>Training Resourc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1295280"/>
            <a:ext cx="358128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ternal Person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quality assurance committ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nici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urs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athologis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fection con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pidemiologi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800600" y="1295280"/>
            <a:ext cx="411480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xter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sesso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nufacture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cience societ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orld Health Organ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enters for Disease Contro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and Preven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andards developmen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rganiza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FN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2514600" y="4191120"/>
            <a:ext cx="2130480" cy="2361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5149B5-04AD-4C9D-A97A-926C0BE9644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Verdana"/>
              </a:rPr>
              <a:t>Causes of Poor Perform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09480" y="1295280"/>
            <a:ext cx="373392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ersonn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ersonal heal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ersonal distra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isundersta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iscommun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8F5E1A-99AE-484F-AE5E-1D4717CD4F4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Verdana"/>
              </a:rPr>
              <a:t>Causes of Poor Perform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57200" y="1143000"/>
            <a:ext cx="746748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ystem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orksite distr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cessive worklo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oor ori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sufficient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bsent competency assess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mple complex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bsent or invalid SO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mbiguous SO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3CBE38-95B2-4BED-B773-21FE0177FB3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Robin Barteluk</cp:lastModifiedBy>
  <dcterms:modified xsi:type="dcterms:W3CDTF">2008-11-23T23:58:18Z</dcterms:modified>
  <cp:revision>197</cp:revision>
  <dc:subject/>
  <dc:title>Slide 1</dc:title>
</cp:coreProperties>
</file>